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6FA-D087-4949-9639-3B9D9BAD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1EE-935E-4EEB-84C7-43D4D4B2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830-5B20-4FAD-835F-4B59BC60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3C7-99C3-4756-A9D6-A5962E6E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551-2A33-41CE-AAA0-AE37872A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1957-F823-4222-8CB2-3F838A8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B6B-B72E-4212-B71C-BEC39650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932-C0E6-4592-94BA-0CA8C28B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958-F38B-4463-B11E-B7116DD8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24A-2D61-4AB4-B79A-44FF7975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634-B9C6-4EB5-8870-D829AAA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5CF-C608-44A3-B725-56CC2603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1C9B-5BCB-4C90-9ECF-7035008668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Picture 6" descr="Gandalf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" name="Picture 6" descr="Piramides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iramides 02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" name="Picture 6" descr="Pythagoras_Campanas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itagoras monocordio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Selknam chico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ioses Hindues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or qué es importante esto?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que juega un rol primordial en las religiones, queda sujeta también a qué tipo de religión o creencia o filosofía está imperan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" name="Picture 6" descr="dioses Hindues"/>
          <p:cNvPicPr/>
          <p:nvPr/>
        </p:nvPicPr>
        <p:blipFill>
          <a:blip r:embed="rId1"/>
          <a:stretch/>
        </p:blipFill>
        <p:spPr>
          <a:xfrm>
            <a:off x="5572080" y="20001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6" descr="Columnas griegas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Grecia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grecia de noch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Picture 8" descr="Pythagoras_6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3:23:32Z</dcterms:modified>
  <cp:revision>30</cp:revision>
  <dc:subject/>
  <dc:title>Taller de Ciencias en la Música </dc:title>
</cp:coreProperties>
</file>